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  <p:sldId id="291" r:id="rId57"/>
    <p:sldId id="292" r:id="rId58"/>
    <p:sldId id="293" r:id="rId59"/>
    <p:sldId id="294" r:id="rId60"/>
    <p:sldId id="295" r:id="rId61"/>
    <p:sldId id="296" r:id="rId62"/>
    <p:sldId id="297" r:id="rId63"/>
    <p:sldId id="298" r:id="rId64"/>
    <p:sldId id="299" r:id="rId65"/>
    <p:sldId id="300" r:id="rId66"/>
    <p:sldId id="301" r:id="rId67"/>
    <p:sldId id="302" r:id="rId68"/>
    <p:sldId id="303" r:id="rId69"/>
    <p:sldId id="304" r:id="rId70"/>
    <p:sldId id="305" r:id="rId71"/>
    <p:sldId id="306" r:id="rId72"/>
    <p:sldId id="307" r:id="rId73"/>
    <p:sldId id="308" r:id="rId74"/>
    <p:sldId id="309" r:id="rId75"/>
    <p:sldId id="310" r:id="rId76"/>
    <p:sldId id="311" r:id="rId77"/>
    <p:sldId id="312" r:id="rId78"/>
    <p:sldId id="313" r:id="rId79"/>
    <p:sldId id="314" r:id="rId80"/>
    <p:sldId id="315" r:id="rId81"/>
    <p:sldId id="316" r:id="rId82"/>
    <p:sldId id="317" r:id="rId83"/>
    <p:sldId id="318" r:id="rId84"/>
    <p:sldId id="319" r:id="rId85"/>
    <p:sldId id="320" r:id="rId86"/>
    <p:sldId id="321" r:id="rId87"/>
    <p:sldId id="322" r:id="rId88"/>
    <p:sldId id="323" r:id="rId89"/>
    <p:sldId id="324" r:id="rId90"/>
    <p:sldId id="325" r:id="rId91"/>
    <p:sldId id="326" r:id="rId92"/>
    <p:sldId id="327" r:id="rId93"/>
    <p:sldId id="328" r:id="rId94"/>
    <p:sldId id="329" r:id="rId95"/>
    <p:sldId id="330" r:id="rId96"/>
    <p:sldId id="331" r:id="rId97"/>
    <p:sldId id="332" r:id="rId98"/>
    <p:sldId id="333" r:id="rId99"/>
    <p:sldId id="334" r:id="rId100"/>
    <p:sldId id="335" r:id="rId101"/>
    <p:sldId id="336" r:id="rId102"/>
    <p:sldId id="337" r:id="rId103"/>
    <p:sldId id="338" r:id="rId104"/>
    <p:sldId id="339" r:id="rId105"/>
    <p:sldId id="340" r:id="rId106"/>
    <p:sldId id="341" r:id="rId107"/>
    <p:sldId id="342" r:id="rId108"/>
    <p:sldId id="343" r:id="rId109"/>
    <p:sldId id="344" r:id="rId110"/>
    <p:sldId id="345" r:id="rId111"/>
    <p:sldId id="346" r:id="rId112"/>
    <p:sldId id="347" r:id="rId113"/>
    <p:sldId id="348" r:id="rId114"/>
    <p:sldId id="349" r:id="rId115"/>
    <p:sldId id="350" r:id="rId116"/>
    <p:sldId id="351" r:id="rId117"/>
    <p:sldId id="352" r:id="rId118"/>
    <p:sldId id="353" r:id="rId119"/>
    <p:sldId id="354" r:id="rId120"/>
    <p:sldId id="355" r:id="rId121"/>
    <p:sldId id="356" r:id="rId122"/>
    <p:sldId id="357" r:id="rId123"/>
    <p:sldId id="358" r:id="rId124"/>
    <p:sldId id="359" r:id="rId125"/>
    <p:sldId id="360" r:id="rId126"/>
    <p:sldId id="361" r:id="rId127"/>
    <p:sldId id="362" r:id="rId128"/>
    <p:sldId id="363" r:id="rId129"/>
    <p:sldId id="364" r:id="rId130"/>
    <p:sldId id="365" r:id="rId131"/>
    <p:sldId id="366" r:id="rId132"/>
    <p:sldId id="367" r:id="rId133"/>
    <p:sldId id="368" r:id="rId134"/>
    <p:sldId id="369" r:id="rId135"/>
    <p:sldId id="370" r:id="rId136"/>
    <p:sldId id="371" r:id="rId137"/>
    <p:sldId id="372" r:id="rId138"/>
    <p:sldId id="373" r:id="rId139"/>
    <p:sldId id="374" r:id="rId140"/>
    <p:sldId id="375" r:id="rId141"/>
    <p:sldId id="376" r:id="rId1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slide" Target="slides/slide36.xml"/><Relationship Id="rId58" Type="http://schemas.openxmlformats.org/officeDocument/2006/relationships/slide" Target="slides/slide37.xml"/><Relationship Id="rId59" Type="http://schemas.openxmlformats.org/officeDocument/2006/relationships/slide" Target="slides/slide38.xml"/><Relationship Id="rId60" Type="http://schemas.openxmlformats.org/officeDocument/2006/relationships/slide" Target="slides/slide39.xml"/><Relationship Id="rId61" Type="http://schemas.openxmlformats.org/officeDocument/2006/relationships/slide" Target="slides/slide40.xml"/><Relationship Id="rId62" Type="http://schemas.openxmlformats.org/officeDocument/2006/relationships/slide" Target="slides/slide41.xml"/><Relationship Id="rId63" Type="http://schemas.openxmlformats.org/officeDocument/2006/relationships/slide" Target="slides/slide42.xml"/><Relationship Id="rId64" Type="http://schemas.openxmlformats.org/officeDocument/2006/relationships/slide" Target="slides/slide43.xml"/><Relationship Id="rId65" Type="http://schemas.openxmlformats.org/officeDocument/2006/relationships/slide" Target="slides/slide44.xml"/><Relationship Id="rId66" Type="http://schemas.openxmlformats.org/officeDocument/2006/relationships/slide" Target="slides/slide45.xml"/><Relationship Id="rId67" Type="http://schemas.openxmlformats.org/officeDocument/2006/relationships/slide" Target="slides/slide46.xml"/><Relationship Id="rId68" Type="http://schemas.openxmlformats.org/officeDocument/2006/relationships/slide" Target="slides/slide47.xml"/><Relationship Id="rId69" Type="http://schemas.openxmlformats.org/officeDocument/2006/relationships/slide" Target="slides/slide48.xml"/><Relationship Id="rId70" Type="http://schemas.openxmlformats.org/officeDocument/2006/relationships/slide" Target="slides/slide49.xml"/><Relationship Id="rId71" Type="http://schemas.openxmlformats.org/officeDocument/2006/relationships/slide" Target="slides/slide50.xml"/><Relationship Id="rId72" Type="http://schemas.openxmlformats.org/officeDocument/2006/relationships/slide" Target="slides/slide51.xml"/><Relationship Id="rId73" Type="http://schemas.openxmlformats.org/officeDocument/2006/relationships/slide" Target="slides/slide52.xml"/><Relationship Id="rId74" Type="http://schemas.openxmlformats.org/officeDocument/2006/relationships/slide" Target="slides/slide53.xml"/><Relationship Id="rId75" Type="http://schemas.openxmlformats.org/officeDocument/2006/relationships/slide" Target="slides/slide54.xml"/><Relationship Id="rId76" Type="http://schemas.openxmlformats.org/officeDocument/2006/relationships/slide" Target="slides/slide55.xml"/><Relationship Id="rId77" Type="http://schemas.openxmlformats.org/officeDocument/2006/relationships/slide" Target="slides/slide56.xml"/><Relationship Id="rId78" Type="http://schemas.openxmlformats.org/officeDocument/2006/relationships/slide" Target="slides/slide57.xml"/><Relationship Id="rId79" Type="http://schemas.openxmlformats.org/officeDocument/2006/relationships/slide" Target="slides/slide58.xml"/><Relationship Id="rId80" Type="http://schemas.openxmlformats.org/officeDocument/2006/relationships/slide" Target="slides/slide59.xml"/><Relationship Id="rId81" Type="http://schemas.openxmlformats.org/officeDocument/2006/relationships/slide" Target="slides/slide60.xml"/><Relationship Id="rId82" Type="http://schemas.openxmlformats.org/officeDocument/2006/relationships/slide" Target="slides/slide61.xml"/><Relationship Id="rId83" Type="http://schemas.openxmlformats.org/officeDocument/2006/relationships/slide" Target="slides/slide62.xml"/><Relationship Id="rId84" Type="http://schemas.openxmlformats.org/officeDocument/2006/relationships/slide" Target="slides/slide63.xml"/><Relationship Id="rId85" Type="http://schemas.openxmlformats.org/officeDocument/2006/relationships/slide" Target="slides/slide64.xml"/><Relationship Id="rId86" Type="http://schemas.openxmlformats.org/officeDocument/2006/relationships/slide" Target="slides/slide65.xml"/><Relationship Id="rId87" Type="http://schemas.openxmlformats.org/officeDocument/2006/relationships/slide" Target="slides/slide66.xml"/><Relationship Id="rId88" Type="http://schemas.openxmlformats.org/officeDocument/2006/relationships/slide" Target="slides/slide67.xml"/><Relationship Id="rId89" Type="http://schemas.openxmlformats.org/officeDocument/2006/relationships/slide" Target="slides/slide68.xml"/><Relationship Id="rId90" Type="http://schemas.openxmlformats.org/officeDocument/2006/relationships/slide" Target="slides/slide69.xml"/><Relationship Id="rId91" Type="http://schemas.openxmlformats.org/officeDocument/2006/relationships/slide" Target="slides/slide70.xml"/><Relationship Id="rId92" Type="http://schemas.openxmlformats.org/officeDocument/2006/relationships/slide" Target="slides/slide71.xml"/><Relationship Id="rId93" Type="http://schemas.openxmlformats.org/officeDocument/2006/relationships/slide" Target="slides/slide72.xml"/><Relationship Id="rId94" Type="http://schemas.openxmlformats.org/officeDocument/2006/relationships/slide" Target="slides/slide73.xml"/><Relationship Id="rId95" Type="http://schemas.openxmlformats.org/officeDocument/2006/relationships/slide" Target="slides/slide74.xml"/><Relationship Id="rId96" Type="http://schemas.openxmlformats.org/officeDocument/2006/relationships/slide" Target="slides/slide75.xml"/><Relationship Id="rId97" Type="http://schemas.openxmlformats.org/officeDocument/2006/relationships/slide" Target="slides/slide76.xml"/><Relationship Id="rId98" Type="http://schemas.openxmlformats.org/officeDocument/2006/relationships/slide" Target="slides/slide77.xml"/><Relationship Id="rId99" Type="http://schemas.openxmlformats.org/officeDocument/2006/relationships/slide" Target="slides/slide78.xml"/><Relationship Id="rId100" Type="http://schemas.openxmlformats.org/officeDocument/2006/relationships/slide" Target="slides/slide79.xml"/><Relationship Id="rId101" Type="http://schemas.openxmlformats.org/officeDocument/2006/relationships/slide" Target="slides/slide80.xml"/><Relationship Id="rId102" Type="http://schemas.openxmlformats.org/officeDocument/2006/relationships/slide" Target="slides/slide81.xml"/><Relationship Id="rId103" Type="http://schemas.openxmlformats.org/officeDocument/2006/relationships/slide" Target="slides/slide82.xml"/><Relationship Id="rId104" Type="http://schemas.openxmlformats.org/officeDocument/2006/relationships/slide" Target="slides/slide83.xml"/><Relationship Id="rId105" Type="http://schemas.openxmlformats.org/officeDocument/2006/relationships/slide" Target="slides/slide84.xml"/><Relationship Id="rId106" Type="http://schemas.openxmlformats.org/officeDocument/2006/relationships/slide" Target="slides/slide85.xml"/><Relationship Id="rId107" Type="http://schemas.openxmlformats.org/officeDocument/2006/relationships/slide" Target="slides/slide86.xml"/><Relationship Id="rId108" Type="http://schemas.openxmlformats.org/officeDocument/2006/relationships/slide" Target="slides/slide87.xml"/><Relationship Id="rId109" Type="http://schemas.openxmlformats.org/officeDocument/2006/relationships/slide" Target="slides/slide88.xml"/><Relationship Id="rId110" Type="http://schemas.openxmlformats.org/officeDocument/2006/relationships/slide" Target="slides/slide89.xml"/><Relationship Id="rId111" Type="http://schemas.openxmlformats.org/officeDocument/2006/relationships/slide" Target="slides/slide90.xml"/><Relationship Id="rId112" Type="http://schemas.openxmlformats.org/officeDocument/2006/relationships/slide" Target="slides/slide91.xml"/><Relationship Id="rId113" Type="http://schemas.openxmlformats.org/officeDocument/2006/relationships/slide" Target="slides/slide92.xml"/><Relationship Id="rId114" Type="http://schemas.openxmlformats.org/officeDocument/2006/relationships/slide" Target="slides/slide93.xml"/><Relationship Id="rId115" Type="http://schemas.openxmlformats.org/officeDocument/2006/relationships/slide" Target="slides/slide94.xml"/><Relationship Id="rId116" Type="http://schemas.openxmlformats.org/officeDocument/2006/relationships/slide" Target="slides/slide95.xml"/><Relationship Id="rId117" Type="http://schemas.openxmlformats.org/officeDocument/2006/relationships/slide" Target="slides/slide96.xml"/><Relationship Id="rId118" Type="http://schemas.openxmlformats.org/officeDocument/2006/relationships/slide" Target="slides/slide97.xml"/><Relationship Id="rId119" Type="http://schemas.openxmlformats.org/officeDocument/2006/relationships/slide" Target="slides/slide98.xml"/><Relationship Id="rId120" Type="http://schemas.openxmlformats.org/officeDocument/2006/relationships/slide" Target="slides/slide99.xml"/><Relationship Id="rId121" Type="http://schemas.openxmlformats.org/officeDocument/2006/relationships/slide" Target="slides/slide100.xml"/><Relationship Id="rId122" Type="http://schemas.openxmlformats.org/officeDocument/2006/relationships/slide" Target="slides/slide101.xml"/><Relationship Id="rId123" Type="http://schemas.openxmlformats.org/officeDocument/2006/relationships/slide" Target="slides/slide102.xml"/><Relationship Id="rId124" Type="http://schemas.openxmlformats.org/officeDocument/2006/relationships/slide" Target="slides/slide103.xml"/><Relationship Id="rId125" Type="http://schemas.openxmlformats.org/officeDocument/2006/relationships/slide" Target="slides/slide104.xml"/><Relationship Id="rId126" Type="http://schemas.openxmlformats.org/officeDocument/2006/relationships/slide" Target="slides/slide105.xml"/><Relationship Id="rId127" Type="http://schemas.openxmlformats.org/officeDocument/2006/relationships/slide" Target="slides/slide106.xml"/><Relationship Id="rId128" Type="http://schemas.openxmlformats.org/officeDocument/2006/relationships/slide" Target="slides/slide107.xml"/><Relationship Id="rId129" Type="http://schemas.openxmlformats.org/officeDocument/2006/relationships/slide" Target="slides/slide108.xml"/><Relationship Id="rId130" Type="http://schemas.openxmlformats.org/officeDocument/2006/relationships/slide" Target="slides/slide109.xml"/><Relationship Id="rId131" Type="http://schemas.openxmlformats.org/officeDocument/2006/relationships/slide" Target="slides/slide110.xml"/><Relationship Id="rId132" Type="http://schemas.openxmlformats.org/officeDocument/2006/relationships/slide" Target="slides/slide111.xml"/><Relationship Id="rId133" Type="http://schemas.openxmlformats.org/officeDocument/2006/relationships/slide" Target="slides/slide112.xml"/><Relationship Id="rId134" Type="http://schemas.openxmlformats.org/officeDocument/2006/relationships/slide" Target="slides/slide113.xml"/><Relationship Id="rId135" Type="http://schemas.openxmlformats.org/officeDocument/2006/relationships/slide" Target="slides/slide114.xml"/><Relationship Id="rId136" Type="http://schemas.openxmlformats.org/officeDocument/2006/relationships/slide" Target="slides/slide115.xml"/><Relationship Id="rId137" Type="http://schemas.openxmlformats.org/officeDocument/2006/relationships/slide" Target="slides/slide116.xml"/><Relationship Id="rId138" Type="http://schemas.openxmlformats.org/officeDocument/2006/relationships/slide" Target="slides/slide117.xml"/><Relationship Id="rId139" Type="http://schemas.openxmlformats.org/officeDocument/2006/relationships/slide" Target="slides/slide118.xml"/><Relationship Id="rId140" Type="http://schemas.openxmlformats.org/officeDocument/2006/relationships/slide" Target="slides/slide119.xml"/><Relationship Id="rId141" Type="http://schemas.openxmlformats.org/officeDocument/2006/relationships/slide" Target="slides/slide120.xml"/><Relationship Id="rId142" Type="http://schemas.openxmlformats.org/officeDocument/2006/relationships/slide" Target="slides/slide121.xml"/><Relationship Id="rId1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1F89-E344-43F0-AEDA-AEFB87F7A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F4F1-396F-4C4A-9BD3-5F856897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727B7-CDEF-4C45-B8F5-7F38F810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DC8A6E-8584-4155-AB78-A8849E482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6F4A9-59C4-4417-B451-2D8EDD95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0AD13-6F8D-42D5-8F2B-EE886D14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7B0D2-D488-4A0F-A913-A137FA00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0E8EA4-A13B-435F-B9DB-C1F4E16D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F9962-C82F-4843-93B9-8D5F1101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E95AC-8A2C-48C8-BEA7-208189C49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D4148A-A06C-4BAB-9963-B031D67DC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ED1BB-9503-455B-9242-1BF4FCD08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92EC-3724-4AB8-B692-C8623086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1D80D-61F5-4D8A-92BD-5AE85879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5A631-6050-4BB4-A70C-DB7D7853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ABA72-077D-45ED-8D9E-465C37D9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5743AA-B050-442E-B7AD-D4E391764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045748-E055-4E1E-AF00-DE5ACFAF4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176FE-CDC0-4068-9984-9E7759D9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154BD-4485-46A3-BC33-12DDC6E2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D07239-4591-43BD-9C53-C6D38DEDC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A35C35-7512-4C45-945A-067B1BA0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1755D-1428-41C8-8ED8-B3F28E807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AC5F-E5DD-4FDC-85DE-A124F9ACB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27F759-60D8-415D-A6FE-939C2AE45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19D3F9-0C07-42D1-BC2D-B4DDE639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68E2B-226A-48C9-B9C8-78F4FD3A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24A79-5F4C-46C6-B0B8-E4C911B76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99E9D-D200-4542-B9D0-01E76DA70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FEBE2-CA5F-47A1-BB2F-4F54714F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EE8BE-0356-41A0-BD11-7C5BB68E5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4E2B2-3DF4-4D54-A896-43851712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C9CE0-12B0-4602-B419-5709C6F4A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5FF28-EB8F-4911-A201-EAC12519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E0E3-534A-4F2E-AFA9-060BC0B2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6BC13-4D63-43DF-95B5-570C5101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BCAC1-4F71-4955-AFAE-5AEADA95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772E3-D3AA-4458-A17D-CFA508C9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5BDB1-B618-4C14-A185-4BA3E46F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6FFAE9-6CF2-4750-9456-FE08F57B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8D97B0-BEE2-498C-9EB0-260AB2B1C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3FB27-AEC6-4B27-928A-6609E365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2CC3BC-6C56-4EC9-8471-21B4068D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FCB19B-1489-4B6C-94D5-C668B4F7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563FE3-C6F2-4B71-B0BA-F940B196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4907-0A7B-4255-A28D-94DE361C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FF4177-571B-4723-9FA9-E6EF9058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8EB8C-8D9F-49CA-852C-24A95CA2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801E63-5535-4DFC-8C0E-81929536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B055D-0301-42A2-A17A-822696EC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47BB87-E615-4B40-AE1F-98FF9558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D7A965-E7AE-49DC-A5F1-0F279069C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46DE30-A43B-44F4-A6B4-9E65B638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79311C-222B-4BCE-AB45-070B7F4F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C85EF9-CD21-433D-B43B-541F32C7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AD4943-F960-463E-86FF-16BF1F9E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8714-445E-4D92-ABBA-121EC82D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C8D68F-3C24-4823-B5ED-2599B612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361D72-BA68-4DE7-9D32-D90142EE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7B676-C860-4C01-8FE1-27AC8C11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3150F9-7F28-4A42-AF31-F691ACEC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BB036C-ECB2-46D6-A19E-BB2FA36F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10EED8-DC8B-4406-8E21-930B0356F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A33596-A253-4F41-9A29-01789FB68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8FC1D2-1164-4140-9B36-26F512633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542FC4-589A-4CFC-BB5A-2D03D683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4B38E4-9BA3-4A98-A691-FD0397EB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8F1F-B845-48D5-8804-65B1BA7D3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D141BF-A0BA-447D-8337-0CE2C87BA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2E90F5-4700-4E4B-B45C-239AFBB9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D5CF31-8BFA-4830-A231-D2A2220B9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07D945-B661-4A63-B5A0-41B99A60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59AEDA-E15B-4DF9-B619-95E7F60BB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7A852C-83A6-4C85-906A-CA2DF6BB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28A4D6-A18D-4A19-A20B-92C6D687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0E1E86-3DA9-49CA-B7FB-5DCD7634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11B1E6-C636-45BF-9EC9-273B50E59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A3428B-9B3F-47DB-90F8-BBDFA7561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2590-E9DE-4F1D-8795-95F9F98A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F5442F-40E2-41D6-AFC5-BDEBFC2F1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40785D-B409-4E74-A668-FF9009C9E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5EF956-24A0-41C7-853A-CC9BC12C4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0DE8EF-FA58-4CD8-A36A-B4D5C803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99B852-1BA5-4880-BB63-8FB00412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758BBF-B661-449D-A80E-5F6A2476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7CC2D4-01A2-45D9-B63A-3CB27FC7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BDE184-BE0A-4478-A42B-F2208BD0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7E34DD-826A-4C63-BB50-8F047501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E14899-693C-47A1-97E5-0C3CF775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1CD3-8547-47EB-81B2-EFB452A9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5FE880-B7E2-4D09-BB73-E0F1EE6A3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F737ED-439A-4FC3-9716-DB4DABCA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BB9231-6D9F-4EE3-97A0-5C167074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87D9B3-3318-448A-8402-05DD3BAF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293734-6A4A-40B1-B78E-A75D240D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295B5C-A44C-4CBB-BB92-6297CB8B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699854-3DDD-46AC-907E-3F2050D6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37B7FC-AB79-4939-BBB3-62D097EF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28A769-414A-49EB-A3B4-9C8B3A22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8144EB-E352-4873-B809-6DD98D07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1351-7667-4B69-AB73-42EE5CE9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8A0B3A-3528-4EFB-9C4C-110D7D2A2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D2E315-60FB-4573-93B7-45B66CFA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10F979-1152-4DC9-92C2-DA24A2980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7A3682-301B-4AEE-9357-E43802AF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D0A281-483A-4F6E-BBD7-FD5793C59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B22006-DA3B-473C-8A9C-7CC3BD06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827AE6-5463-4D05-A87A-B25F98D2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5EFB9F-5C06-4F05-9AD9-D64B0D70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A16DDF-2F03-47B0-B44C-7197B63E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3A7E33-A441-4B4E-887A-3AB35841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F79E-1673-47E7-9AAF-18502840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72024-9A67-4F84-8537-D8097589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139249-A173-4027-A0F1-59EB4057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F20890-9C4C-4FB3-9C26-1309B893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F6095F-8642-44E3-8B77-A91D95830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106389-AA6D-4FA3-8B03-71095D1C8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8B8829-E349-4DB5-B0CE-E27E399E3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4D310E-4E3D-495E-A473-D87B1AA61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FB4D26-58B9-4764-9C8D-2A337C87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938D12-A922-4440-B8ED-54296E7F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06D401-8499-4B5B-A6CE-700072C0B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4E19A8-00BE-4939-8BBA-9BA7E47D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5F27-F36A-4CFF-AE95-A535B74D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347525-2419-45FB-A772-278445C4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376AFF-2446-4AEF-9754-2E2F6C47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F1EDC7-20CD-4AA3-AEF7-2E7AB1DE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6FB0F8-803A-43C6-BB4E-65607577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FC8FE6-EBD4-416A-912A-318C3C35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C69119-03D3-4EEC-A531-9C0D0A6B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F81F7C-7DBA-49EE-A4A3-527AADEE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F9930D-7F6A-4845-9498-E89BDBE1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D6E0DC-B77F-4DE9-961F-7432C7A8F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793597-597F-427E-8572-8E0B001ED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A888-7473-43F9-9242-6AA740416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16FC44-1248-4A43-8839-2593B6FE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C4BE3B-A268-4B2F-AAD5-1A7B7E44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E26888-96DB-4FD8-BE69-B67FF60C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CB3AF3-0CAD-44D8-AEE8-F6C05D20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9D7797-B9EA-46D6-93E3-B6A4EFBB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453E72-3320-4BBD-9491-A08569C9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EE09CA-5F83-4E40-860F-78809A7A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4E1360-52FE-4AEC-8F8D-97B738C6C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77EF2C-E1A8-4176-8ED0-D57A63592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2CE19D-83AA-4A59-A497-AC712974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83DBB-B4C6-4C99-9C2A-B7B7A7D43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9E23D5-FD5E-4A2F-90D5-39BD01413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7B6BFA-AE0A-478B-A101-A55AFD41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32CE5E-2DE6-4A55-AB63-CE941AE0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56A124-7C37-40D8-861A-7CEA37E62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D6DBB0-007E-407F-B271-2A824B8B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5914BF-E779-4D4B-89B8-2BEA5AB8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241086-6FEC-45FB-A826-1204FC45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C27D13-4855-40FE-BA55-E8F438BE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A18CA9-137E-43CD-B0BF-2BD0B531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1578A3-FC70-4535-BDB2-652E6117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BB25-7F94-4D73-96DB-1C6F619F5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E9E9D3-EDC1-4A05-9CB9-D5684D43D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E64CA-444A-4677-ACBB-53213A93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82C28-0D2C-422F-8640-E85AE19B8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AB665-AFE1-4287-97A6-B41ADF0D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3DF1B-CC21-4C27-A132-78EDE004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68AA0-5E89-4A92-B4BC-DD3448B1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194-C2D6-4952-942A-06578CA5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899EA-8F4D-4829-A21A-00F744A9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84EEA-FB64-4E5B-B039-A8237AA6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67C90-17B9-4942-8132-49329BDC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32FA6-62A3-4EAC-B937-E49EBA05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CFD10-6261-4DBC-B3A4-7485ACE9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B3644-AA3D-4356-A633-BE16203D2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26F1E-B22C-4FAE-BAB6-C796E92F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8F231-971B-4B6E-8683-15B75E405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E9BA1-BE26-47FB-90F4-4453859B0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19F4B-C4C6-48BA-9609-C83372A4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AE81-A75F-4604-8219-EC7DD3AD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E0F10-B025-45B5-A4E7-D4C0ADE1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BD02C-6D32-448C-A614-AC9BD9AF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84B38-4C0E-4D64-967C-1411B6DA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0EF17-9F65-470B-A9A1-4A25C2AA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BBF8D-9FF6-4248-9084-3C0375A7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52F78-71AC-4575-8D81-F0B9F15FE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F4E95-C6B1-467A-9DFA-05B7E16F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1E7DC-8FE3-4273-8E44-797517E8A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50E78-51F0-4B8C-B0F6-C7D7DB02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9F223-823F-47B1-9316-B74B6F18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E5F5-52D3-4E49-BAA7-21CCCAF8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B52A9-490E-4232-B749-18A5884A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ACA73-8B71-4CB8-9A28-81E4F6C4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7AAE0-813A-4AEE-BB71-20E6EE0E9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CA834-79FB-4FD1-9618-34B30BF1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018FB-43EF-4BC4-AA56-1113501D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07EFB-B606-47B4-952E-E1708473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78A55-8CE8-4642-B2F3-BCD6FE8C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A8973-F56D-4B65-99E0-CE77F966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C41E8-2047-4B9E-923A-35FD5D8A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2A269-A07F-403D-B283-0D36E851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AA8A-8FCA-4F36-A10B-9FC71B33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05FF6-FA8F-47E8-84CA-7D0BC7404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09199B-7310-46A1-B17F-32672D80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B2E95-3F8D-499D-85D7-90155E23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2447A-4F7D-4573-B118-24A6AC23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376A8-F34B-407D-AE6B-14B6632F0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DC9D9-1691-442C-BE8E-B6590350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FD010-005B-4768-A96C-10DF8717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F20A8-734F-410D-B3A2-CE5E8A77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05F52-DB0E-4E17-BF0E-750F9FE4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29207-5804-4E45-BB35-5E7FCF55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80DE-EBE2-4674-9C64-F356EFC0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32F8F-9D02-4284-96A3-7BFA1620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6DF7A-A996-49DC-A1C0-DB336AA57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A4D55-D4D3-41BA-A052-A71B16F20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5B42C-E75C-4B9C-92D6-3E10A3E4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37DBA1-CF0E-478A-BD80-1F57FD5E6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2BBCE-D3CF-4DA0-B138-BCCBA50D5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07DEC-AF4C-4737-B4C0-9CBD8D170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DBCFB-A786-412A-9653-0BF1FB3F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71C53-A8EE-4F43-AEC7-5CE13020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63711-9206-452D-A1F4-58063833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7E0-64F7-40F8-9465-E3B407D2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C0D4C-2B47-406A-BC22-5F201847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EB3B3-7398-474F-B554-EBC13DB0E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E2B23A-6489-4891-9454-46ABE7B73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D2CF5-CBFA-4808-8CEE-C8AF73B6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A0A8A-BBF3-47F5-80E3-9085233B4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C35C7-D89F-49ED-B778-067DE92B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FCCFE7-21A9-4669-9CC2-46BEFE85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2F16D-8B93-4B7F-B8BB-9975E4AD5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57224-1DA9-4BA9-8968-92869D44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24D55-89E3-475A-AAEB-990F8CE9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E066-C2AF-4401-8623-67B12AF4D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B1A3C-CD07-4D58-ABB5-BA4256EC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A07C6-7D68-4693-B303-905FEA26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EE230-CB94-4D88-88DF-807536AD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3A4D1-9F17-4017-871F-6CD36A3C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9F7B83-4B8A-4527-9EBB-3AADC299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DA02AC-DC8A-472C-A58B-865A89B1A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EC90C-CD6A-4B2A-AAAB-8A5C6025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C2ACC-5FA6-468A-9AA2-517A6C780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083A65-597B-4BC3-9844-1EF51C60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B95D5-6088-402E-A87A-2C81A6FE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19191-6DC3-41CB-977D-95B38CA49AB3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7EF2-5928-486B-AB73-70FC8D2F5085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C6E5-B6A4-4772-8F2F-DD413E35BAFE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DC63-9D18-4F63-9035-04C4ADFE12A9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2FB8-7965-4A86-9EB9-33DCE785C899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F40D-CC18-4770-BD6B-1F76273399AC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135F3-4D16-404B-9699-C0B0F456BCBD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3AD3-854A-40EC-A08F-41867951DFE9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E51E1-2203-4FDE-A160-5028911617E7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79A57-E732-4B12-8667-CE81DD230D12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0401C-0200-4592-8075-25F00AE6EDB3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A3E6-7D90-41F0-8D1A-A72A47A7F0A1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26F27-2932-442A-AE97-6E305AB74C14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570F-4058-4703-B61B-89B200CE8691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96AC4-A2F5-403C-A799-24B09B708275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62648-9970-43B2-8753-8736955AAF30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80F93-7C5B-4B01-AC1E-A5ED9C237DDF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8D09-C85D-4A5E-A6B2-48364400D823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6954-A86E-446A-B795-B58F6BD407F5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6C762-F4E4-4D5D-9614-297BB33D8FA5}" type="slidenum">
              <a:rPr b="1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ulty of Medical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Kragujev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CHEMICAL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lead to health disorders at home and at the workpla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GREE OF COLLECTIVE I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degree of herd immunity required to prevent disease </a:t>
            </a: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varie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from disease to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ability of individuals to transmit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inf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length of its contagiou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mode of transmission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of the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size of the collectiv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nd the relationships within it (closeness and intensity of contacts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existence of collective immunity can be explained by: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bsence of an epidemi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 a popul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yclical variation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some infectious diseases, especially those transmitted by droplets, that is, by direct contact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ocess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elf-regulatio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the epidemi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121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35809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finition: The totality of external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factors of living and non-living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nature that act on a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pecific unit or ecological community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determining their development and survival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 (Ecosphere)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layer of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arth's crus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including water and air, in which all the living world is loc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- geosp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- biosphe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COLOG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cience of the relationship between living beings and the environmen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hat surrounds them (other individuals of the same species, flora and fauna and the entire inanimate nature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PIDEMI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EDICAL (HUMAN) EC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studies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terrelationships between man and the environmen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hat have an impact on health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1. ABIOTIC (GEOPHYSICAL) ENVIRONMENT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includes inanimat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on-living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nature - the geosphere (water, oxygen, minerals...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mosp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ydrosph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hosphe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ABIOTIC (GEOPHYSICAL) ENVIRONMENT 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Factors of the non-living environment that affect the distributio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health and disea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logical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graphic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limate factor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LOGICAL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RECT impact on heal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ndemic goit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lack of iodine in soil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 wate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fluorosi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tooth damage due to increased F2 content in water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lung canc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increased emanation of radon from the soil increases the natural radioactivity background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he most important chemical agent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esticid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insectic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fungic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herbici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the food industr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synthetic col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preser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 antioxida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dicine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2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LOGICAL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DIRECT impact on heal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composition of the soil affect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ypes of flora and fauna affect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he way of human nutr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soil permeability affect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water supply, water p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in the karst regions, there is a risk of hydric epidemic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GRAPHICAL factors (location of terrain, configura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DIRECT influenc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n the topographical distribution of the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thanks to the English Channel, there is no rabies in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. Bri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connection of terrain with river valley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2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EOGRAPHICAL factors (location of terrain, configur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INDIRECT influenc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on the topographical distribution of the disease - The configuration of the terrain determines where the settlement will be built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ffects the degree of air pollu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košava in Belgra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the location of Sarajevo in the bas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most important for the epidemiological situation are the geographical factors that determine the climatic conditions (latitude, altitude).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LIMATE FA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olar rad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empera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recipi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affect health DIRECTL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heatstroke, frostbite, "white death"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IOTIC (GEOPHYSICAL) ENVIRONMENT 2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LIMATE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INDIRECT action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urvival m.o. in the external enviro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t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e type of flora and fauna affects the di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reservoir and carrier behavior (wintering roden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behavior of other animal species (in the temperate zone of the country they do not bite during the cold perio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activity of the man himself (field work, hunting, summer vacatio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2. BIOTIC (BIOLOGICAL-SOCIAL) ENVIRONMENT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1/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finition: Living beings and the relationships they establish with each other (depend on social organization and degree of evolutionary development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lonies of flies and be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uman communit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2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DIRECT EFFECTIV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nimals or plants lead to disorders of human heal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fectious disease agents (viruses, rickettsiae, bacteria, fungi, protozoa and multicellular parasite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oisonous plants (head of rye, cornfl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oisonous animals (spiders, snakes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ypersensitivity to otherwise harmless plants and animals (pollen, feathers, etc.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3/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INDIRECT EFFECT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Ve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nimal reservoirs of in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probability that ticks transmit Lyme disease depends on the type of vegetation (tall grass), the type and number of animals on whose blood the tick fee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choice of profession and the type of economy of the social community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4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FLUENCE ON PEOPLE'S HEAL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the past (plants, animals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malnutrition, dying of hunger and infectious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oday, relationships in the human comm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socio-economic status, available patterns of behavior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ffec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lifestyle (diet, smoking, physical activity, alcohol consumption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5/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uman behavior (certain habits) has an impact on the structure of illness and death (on national pathology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mmunities affected by rapid social chang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oor countries becom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"welfare states"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educed physical activity, increased obesity, more diabetes and heart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1" name=""/>
          <p:cNvGraphicFramePr/>
          <p:nvPr/>
        </p:nvGraphicFramePr>
        <p:xfrm>
          <a:off x="152280" y="152280"/>
          <a:ext cx="8763120" cy="6524640"/>
        </p:xfrm>
        <a:graphic>
          <a:graphicData uri="http://schemas.openxmlformats.org/drawingml/2006/table">
            <a:tbl>
              <a:tblPr/>
              <a:tblGrid>
                <a:gridCol w="1866960"/>
                <a:gridCol w="2933640"/>
                <a:gridCol w="3962520"/>
              </a:tblGrid>
              <a:tr h="118908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CAL AGENT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SON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OGENOUS origin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ORGANIC (halogen elements, CO, Pb, Hg, acids, bases)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7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C (chloroform, ether, alcohol benzene, phenol)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OGENOUS origin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 BIOLOGICAL origin (toxic mushroom toxins, alkaloids and glycosides of plant origin, snake venoms, insects)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remia, hepatitis coma, diabetic coma, hypoglycemic crisis, hypercholesterolemia, hormonal imbalance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IOTIC (BIOLOGICAL-SOCIAL) ENVIRONMENT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6/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olent destruction of existing social relations (wars, revolution) leads to worsening of the epidemiological situa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BIOLOGICAL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auses of infectious diseas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ru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icketts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Fung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rotozo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etazo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haracteristics of living agents on which the emergence of INFECTIOUS diseases depends 1/2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Way of excretion from the bo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Way of entering the bod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athogen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fe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tagiousnes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haracteristics of living causative agents on which the occurrence of INFECTIOUS disease depends 2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rul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ox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mmunogen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ensitivity and resistance to drugs and disinfect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esistance in the external environm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lassification of the causative agents of infectious diseases according to RESISTANCE in the EXTERNAL ENVIRONMENT – Chernozubov 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. Obligate parasites outside the body perish quick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measles, syphilis, gonorrhea, epidemic meningit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2. They survive outside the body for a while, but do NOT reprodu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TB bacillu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lassification of the causative agents of infectious diseases according to RESISTANCE in the EXTERNAL ENVIRONMENT - Chernozubov 2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22960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3. OUTSIDE THE ORGANISM, under favorable conditions, they REPRODU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t. typhoid, paratyphoid, cholera, dysente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4. They survive for a long time in the external environment in the form of SP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anaerobic bacteria - causes of tetanus, gas gangrene, botulism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NFLUENCE OF VIRULENCE AND THE QUANTITY OF GERMS ON THE DISEASE AND EPIDEMIC PROCES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1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Features of the biological agent responsible for the occurrence of infectious diseas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athogenic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tagiousness Infe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rul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NFLUENCE OF VIRULENCE AND THE QUANTITY OF GERMS ON THE DISEASE AND EPIDEMIC PROCES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2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ATHOGENICITY? Physiological characteristic of the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TAGIOUSNESS? The ease with which the disease is TRANSMITTED to other ho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FECTIVITY? The ability of the agent to PENETRATE the host, MAINTAIN itself and REPLICATE (develop in it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LESSON 3 (THIRD WEEK)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mical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logical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rvoir of infectious agents and source of 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ly focal inf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osition. Basic te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pollution. Environmental epidem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FLUENCE OF VIRULENCE AND THE QUANTITY OF GERMS ON THE DISEASE AND EPIDEMIC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VIRULENCE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egree of pathogenic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Variable property of microorganis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ost and environmental factors alter virulence(S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ability to attenuate virulence is used to produce live vacc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reater number of passages on artificial feeding ground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ttenuation, retain their antigenic properties (live vaccines - MoRuPar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QUANTITY (infective dose)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affects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ppearance, course and outcom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the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length of incubation of certain infectious diseases is inversely proportional to the amount of the causative ag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length of incubation of certain infectious diseases is inversely proportional to the amount of the causative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Hydric epidemi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ean incubation period longer than average for a given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ore subclinical and mild atypical infections than expec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lethality lower than aver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For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limentary epidemic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the opposite is tru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Infectious dose required for certain infectious disease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00.000,000 cholera ger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.000 germs for t. typh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00 germs for dysent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inimum amount for transmissive and some respirator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QUANTITY (infective dose)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ignificant in undertaking preventive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y coming into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contact with a small amount of the causative agen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we prevent the occurrence of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subclinical infections develop resistan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HOST = reservoir and/or source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2514600" y="3352680"/>
            <a:ext cx="4114800" cy="1752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cological Triassic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6"/>
          <p:cNvSpPr/>
          <p:nvPr/>
        </p:nvSpPr>
        <p:spPr>
          <a:xfrm>
            <a:off x="4116600" y="1142280"/>
            <a:ext cx="12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ge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7"/>
          <p:cNvSpPr/>
          <p:nvPr/>
        </p:nvSpPr>
        <p:spPr>
          <a:xfrm>
            <a:off x="230040" y="5104800"/>
            <a:ext cx="97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ost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8"/>
          <p:cNvSpPr/>
          <p:nvPr/>
        </p:nvSpPr>
        <p:spPr>
          <a:xfrm>
            <a:off x="6901920" y="5257080"/>
            <a:ext cx="227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nvironme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RESERVOIR?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finition: A person, animal, arthropod, plant, soil or substance as well as a combination thereof in which an infectious agent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normally LIVE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nd from which it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CAN be transmitted to a SUSCEPTIBL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natural habitat of the infectious ag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? 2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Most ofte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t is a living organism, but it can also be an inanimate environment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oil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pores of tetanus, gas gangrene, anthrax, parasite egg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scariasi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ot water pipe system (shower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ir conditioning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ir humidifying condenser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? 3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necessary component of the life cycle of an infectious ag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ne or more reservoirs involved in the circulation of an infectious ag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single host as a reservoir of infection is included in the simplest life cycle model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4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 infectious agent circulates in nature thanks to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transmissio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the agent from person to pers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most infectious diseases (streptococcal and staphylococcal infections, diphtheria, sexually transmitted diseases, child rash fever, parotitis, typhoid fever, amebiasi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finition: The factor whose presence, abundance or relative absence is a NECESSARY CONDITION for the occurrence of a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5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an can also be a reservoir for some diseases that are transmitted to him from animals (anthropozoonoses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ovine TB (from cow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rucellosis (from cows, pigs, goa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thrax (from sheep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Leptospirosis (from roden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abies (from dogs, foxes, wolves...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Reservoire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6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most complex agent life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logically different reservoirs and different developmental stages of the infectious agent (echinococcosis, schistosomiasis and malaria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finition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person, animal, object or substance from which an infectious agent is TRANSMITTED to a susceptible host at a certain moment and leads to the appearance of a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drinking water contaminated with S. typh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a salad contaminated by an infected cook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MOST IMPORTANT RESERVOIR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ESERVOI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4"/>
          <p:cNvSpPr/>
          <p:nvPr/>
        </p:nvSpPr>
        <p:spPr>
          <a:xfrm>
            <a:off x="5565600" y="2056680"/>
            <a:ext cx="108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MAN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5"/>
          <p:cNvSpPr/>
          <p:nvPr/>
        </p:nvSpPr>
        <p:spPr>
          <a:xfrm>
            <a:off x="5490360" y="4037760"/>
            <a:ext cx="162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ANIMAL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Line 8"/>
          <p:cNvSpPr/>
          <p:nvPr/>
        </p:nvSpPr>
        <p:spPr>
          <a:xfrm flipV="1">
            <a:off x="4038480" y="24379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Line 9"/>
          <p:cNvSpPr/>
          <p:nvPr/>
        </p:nvSpPr>
        <p:spPr>
          <a:xfrm>
            <a:off x="3962520" y="3581280"/>
            <a:ext cx="990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Man as a reservoir of infectious agent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PATIENT as a reservo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lyconoser as a reservoi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rodromal st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ypical clinical pi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typical clinical pic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A severe form of the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A mild form of the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In the prodromal stag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(the largest number of germs are excreted, the highest infectiv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atarrhal stage of measles, varicella, rubella, vario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reicteric stage in viral hepatit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 mileston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sufficiently expressed symptomatology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is not possible to make an exact diagnosi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During the TYPICAL clinical pictur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(manifested symptoms characteristic of that infection) reservo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asles (measles, variola, varicella, rubella, scarlet feve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seudomembranes on certain organs (diphtheria, inflamm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ertussis (pertussi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ningeal syndrome (epidemic meningit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eripheral paralysis (polio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uring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TYPICAL clinical pictur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manifested symptoms characteristic of that infection) reservo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have no epidemiological significan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diagnosis was made 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solation and treatment set in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tagion drops sharply and lasts for a short time (viral hepatitis A, pertussi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During the ATYPICAL clinical pictur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Severe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(fudroagent, fulminant, malignant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eath occurs before diagnosi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xcreted a large amount of ge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hemorrhagic variola (variola conflue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udroaiant form of epidemic meningi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diphtheria crou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hemorrhagic scarlet fe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algid form of chol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*) hepatitis A in pregnant women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ne agent →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fferent mutually unrelated agents (alternative effect) →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complex of two or more agents (cumulative effect) →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2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During the ATYPICAL clinical pictur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asy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ambulatory, abortive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don't go to the do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diagnosis is wro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y are not treated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3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During the ATYPICAL clinical picture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Arial"/>
              </a:rPr>
              <a:t>Easy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(ambulatory, abortive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They are inadequately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varicella, measles, rube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scarlet fever without rash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diphtheria inflammation without pseudomemb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pertussis without pric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ambulatory form of typhoid fev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common diarrhea in dysentery and chole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poliomyelitis with catarrhal changes on th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esp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 and git. tra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viral hepatitis A in children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PATIENT as a reservoir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4/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During the ATYPICAL clinical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ymptoms deviate from the characteristic clinical pi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ymptoms more intense or mild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se patients are epidemiologically very importa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MAN - 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PATIENT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uring the NON-MANIFEST form of the disease, the reservo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pidemiological significance gr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aking the diagnosis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asy spread of infection to the environm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CARRIERS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ARRIERS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ealthy or asymptomatic car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cubation carri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rriers after an illnes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-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nvalescent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cut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germin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- Chronic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arri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1/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HEALTHY or ASYMPTOMATIC carrier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persons whose infection is inapparent throughout its cour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o clinical picture-symptoms and sig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leads to seroconversion as an objective sign of infec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Healthy or asymptomatic carrier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y arise in the case of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 small number of cau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Weakly virulent stra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artial (specific or non-specific) re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leaves immunity of the same quality as in the case of a manifest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diagnosis is made exclusively in the laboratory (isolation of the causative agent, serological rea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Healthy or asymptomatic carrier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ccur if there 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bsence of dispos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pecific resistan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 u="sng">
                <a:solidFill>
                  <a:srgbClr val="000000"/>
                </a:solidFill>
                <a:uFillTx/>
                <a:latin typeface="Arial"/>
              </a:rPr>
              <a:t>Healthy or asymptomatic carriers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It is difficult to distinguish them from non-manifest pat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Excretion of causa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is short-liv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They appear during an epidemic of the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Among the persons in the patient's environmen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Arial"/>
              </a:rPr>
              <a:t>those who take care of the si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0" lang="sr-Latn-RS" sz="2400" spc="-1" strike="noStrike" u="sng">
                <a:solidFill>
                  <a:srgbClr val="000000"/>
                </a:solidFill>
                <a:uFillTx/>
                <a:latin typeface="Arial"/>
              </a:rPr>
              <a:t>rarely discovered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More dangerous than germ carriers after previous illne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*) 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Diseases with a high clinical manifestation index (ICM) do not leave germs even after the disease has passed: Measles, varicella, rubella, variola, influenz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Classifications of agents and their characteristic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umerou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mplic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gents can b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. Phys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2. Chemic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3. Biological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UNMANIFESTED inf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pidemiological importance is gre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asy spread of infection to the environm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rriers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s a reservoir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rriers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during incubatio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= from the penetration of the infectious agent into the host organism to the first symptoms of the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Short incubation (cold, flu, bacillary dysentery, SP infection, SF intoxicat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Long incubation (AIDS, hepatitis B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What affects incuba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2/3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genas number and virulenc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ost sensi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lace of entry into the body (shorter incubation in tetanus after head and neck injury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Carriers in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INCUBATION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1. The patient in incubation is NOT a reservoir of infection (chickenpox, variola, measles, pertussis, flu, typhus, paratyphoid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2. The patient is a reservoir of infection AT THE END of incubation (parotitis, acute viral respiratory diseases, poliomyeliti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3. The patient is a reservoir of infection during a LONGER PERIOD (hepatitis A - second half of incubation, hepatitis B - several weeks in the second part of incubation, hepatitis C - one or more weeks in the second part of incubation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FTER AN ILL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nvalescent or acute g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hronic germinabilit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FTER HAVING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CUTE carrie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fter clinical recovery, people excrete pathogens for a short time (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maximum 3 month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r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onvalescent, transitory, temporary especially if there was no adequate treat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HRONIC carr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xcrete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pathogens even 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after 3 m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 from a chronic illness (several years or until the end of life)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Carrier AFTER HAVING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CHRONIC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ar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xcretes pathogens even after 3 m. from a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quired disease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(several years or until the end of li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ay b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ccasional (intermitten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rmanently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CHRONIC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1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arrier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acillary dysentery – more m. up to 1 y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. typhus and paratyphoid – 2-5% of people; in those with chronic inflammation of the gallbladder, bile duct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, renal pelvis, urinary bladder; can b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fecal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urinary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(more dangerou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l tor cholera – r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amonellosis – 1% of adults, 5% of children up to 5 years old; longer than 1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 3/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Carrier AFTER HAVING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CHRONIC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diphtheri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chronic inflammation of the mucous membran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-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several mont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SP infections - several month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hepatitis B – transplacental transmission, HIV, Down's syndrome, hemodialysis pati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malaria - untreated or insufficiently treate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falciparum – on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vivax 1-2 yea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quartana – &gt;3 year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 as a reservoir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some diseases (measles, chicken pox, influenza) there is NO asymptomatic or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valescent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i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From an epidemiological point of view, 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c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rier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 can be more dangerou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han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patient is discovered and iso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arriers move freely and spread the infection to susceptible peopl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ature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of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tensity (physical agen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oxicity (chemical agen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rulence (biological agent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350532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. Si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xcrete a large amount of germ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heep and cow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Q f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heep and goa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brucell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igs, cows, etc. domestic animals, rodent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leptospirosi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thropozoonosi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articularly important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diseases of animal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that can also affect human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r-Latn-RS" sz="3200" spc="-1" strike="noStrike">
                <a:solidFill>
                  <a:srgbClr val="000000"/>
                </a:solidFill>
                <a:latin typeface="Arial"/>
              </a:rPr>
              <a:t>otspot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 the wild (wild animal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n human settlements (domestic animals, wild animals - rodent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Of all animal diseases,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nthropozoonoses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(animal diseases from which humans can get sick)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re especially signific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Pronounced clinical sign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of animal diseases: anthrax, TB, rab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pizootic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mong animals with high mortality: plague, tularemi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most commonly infected animals do NOT show any signs of illnes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but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xcrete a huge amount of causative agent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to the environme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heep and cows with fe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heep and goats in brucell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igs, cows, rodents... with leptospirosi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fections are often maintained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nzootically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mong animal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n free natu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mong wild anim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 human settlement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mong domestic animals and synanthropic rodents (mice, rat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NIMALS AS A RESERVOIR of infectious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Anthropozoonoses according to et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Bacterial: anthrax, bovine TB, tularemia, leptospirosis, malleus - sakagia, plag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Viral: rabies, psittacosis-ornithosis, слинавка-шап, yellow fever, seasonal encephalitis, viral hemorrhagic fever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Rickettsial: Q - fever and other spot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freckle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Protozoal: toxoplasmosis, schistosomiasis, leishmaniasis, trypanosomia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Helminth infections: taeniasis, echinococcosis, trichino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Fungal: microsporia, trichophytia, favu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nfections of natural foci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8229600" cy="330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CONCEPT OF NATURAL FOCU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ope (environment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ore or less limited areas in free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ermanently inhabited by certain types of organisms that make up the biocenosis (living community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atures of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Highly infectious agent → single exposure → dise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Other infectious agents and many non-living agents → larger quantity; longer action → disea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CONCEPT OF NATURAL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iotope and biocenosis are connected into a unique whole, a system of a higher rank, the so-called ecosystem or geobiocenosi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CONCEPT OF NATURAL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NATURAL FOCUS 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ampl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population that, together with the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vertebrate host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population (and in the case of transmissible infections, the vector population), in a certain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biotop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terconnected by food chain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600" spc="-1" strike="noStrike">
                <a:solidFill>
                  <a:srgbClr val="000000"/>
                </a:solidFill>
                <a:latin typeface="Arial"/>
              </a:rPr>
              <a:t>CONCEPT OF NATURAL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 person accidentally exposed to infection during the following activitie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resters, soldiers during the camps. and marches hunters, scientific research teams, mountaine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frequency of infection of people staying in a natural hot spot depends 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ot spot valences (hungry ticks and inse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Number of expo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xposure length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TRUCTURE OF THE NATURAL FOCUS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Cause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of natural focal infections? fungal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viruses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protozoan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bacteri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rickettsia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helminth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stribution of hotspots according to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number of causative agent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unicaus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ulticaus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stribution of hotspots according to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number of animal species involved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ingle househo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ulti-family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The donor and receptors (recipien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donor and receptors (recipients) of the causative agent are populations of various species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wild vertebrate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hosts of the causative agent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TRUCTURE OF THE NATURAL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vision of hotspots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according to vector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(insects and spider-like arthropods) that participate in the transmission of pathogen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ingle v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ulti-vec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plitting hotspots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by siz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Localiz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ffus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TRUCTURE OF THE NATURAL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reproduction of wild animals, vectors and microorganisms is affect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easonal change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activity of a natural hotspot (extinguishing or moving away from human settlements) is influen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human activity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NTHROPURGICAL FOCU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 search of food, wild animals bring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hot spots closer to human settlement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clude domestic animals and rodents in the enzootic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proc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ick-borne meningoencephalit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rimean-Congo hemorrhagic fever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Line 7"/>
          <p:cNvSpPr/>
          <p:nvPr/>
        </p:nvSpPr>
        <p:spPr>
          <a:xfrm>
            <a:off x="4876920" y="3733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ECHANISM OF MAINTENANCE OF THE NATURAL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457200" y="1600200"/>
          <a:ext cx="8229600" cy="22208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rculation of causative agents in the form of a primary, independent epizootic proces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79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ensitive animal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or animal (receptor)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nically manifestly ill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clinical form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2" name="Line 4"/>
          <p:cNvSpPr/>
          <p:nvPr/>
        </p:nvSpPr>
        <p:spPr>
          <a:xfrm flipV="1">
            <a:off x="4343400" y="27428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5"/>
          <p:cNvSpPr/>
          <p:nvPr/>
        </p:nvSpPr>
        <p:spPr>
          <a:xfrm>
            <a:off x="4419720" y="3352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4" name="Picture 56" descr=""/>
          <p:cNvPicPr/>
          <p:nvPr/>
        </p:nvPicPr>
        <p:blipFill>
          <a:blip r:embed="rId1"/>
          <a:stretch/>
        </p:blipFill>
        <p:spPr>
          <a:xfrm>
            <a:off x="304920" y="4191120"/>
            <a:ext cx="8534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revention of natural focal infections? It is based on knowledge of the characteristics of the enzootic process in a specific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236232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asic principles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pecific prot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inimizing contact with the reservoir and carrier of pathog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terruption of the circulation of the causative agent in the natural focus (maximum reduction of the number of reservoirs and carriers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PHYSICAL AGENT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emperature (low and hig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onizing radi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chanical agents (mechanical force, sound, shock, vibratio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y lead to inju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n workpl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n sports fiel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the war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3352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ENTRY AND EXIT PLACES OF INFECTION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NTRY AND EXIT PLACES OF INFECTION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ucous membrane of the respiratory 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ucous membrane of the digestive t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kin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isible mucous membran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ENTRY AND EXIT PLACES OF INFECTION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enetration of the causative agent through ONE entry point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kin - transmissible infectious dis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gestive tract – most intestinal infectious diseas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enetration of the causative agent through MULTIPLE points of e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4" name=""/>
          <p:cNvGraphicFramePr/>
          <p:nvPr/>
        </p:nvGraphicFramePr>
        <p:xfrm>
          <a:off x="304920" y="1208160"/>
          <a:ext cx="8686800" cy="5661000"/>
        </p:xfrm>
        <a:graphic>
          <a:graphicData uri="http://schemas.openxmlformats.org/drawingml/2006/table">
            <a:tbl>
              <a:tblPr/>
              <a:tblGrid>
                <a:gridCol w="2819160"/>
                <a:gridCol w="2438640"/>
                <a:gridCol w="34290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entry poin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tive agent, disease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R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de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ntrance place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us membr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the respiratory trac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ptococcal infection, diphtheria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ble mucosa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sa of the digestive trac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o viru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us of the respiratory trac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n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thrax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us membr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of the digestive and respiratory tract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 and macro lesions of the skin and visible mucous membran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tospirosi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ous membrane of the digestive tract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Flammable process at the front door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6" name=""/>
          <p:cNvGraphicFramePr/>
          <p:nvPr/>
        </p:nvGraphicFramePr>
        <p:xfrm>
          <a:off x="457200" y="1600200"/>
          <a:ext cx="8229600" cy="5106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, bacillary dysentery; cholera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inflammatory process is retained exclusively </a:t>
                      </a:r>
                      <a:r>
                        <a:rPr b="0" lang="sr-Latn-R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t the point of entry</a:t>
                      </a:r>
                      <a:r>
                        <a:rPr b="0" lang="sr-Latn-C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ary SP infection; epidemic meningitis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ents penetrate further into organism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ral hepatitis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changes in the entry site, but in the </a:t>
                      </a:r>
                      <a:r>
                        <a:rPr b="0" lang="sr-Latn-R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rgans for which the causative agent has an affinity</a:t>
                      </a:r>
                      <a:r>
                        <a:rPr b="0" lang="sr-Latn-C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-152640" y="0"/>
            <a:ext cx="9296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EPIDEMIOLOGICAL CLASSIFICATION OF INF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DISEASE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(made on the basis of the 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MAIN entry point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of the causative ag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8" name=""/>
          <p:cNvGraphicFramePr/>
          <p:nvPr/>
        </p:nvGraphicFramePr>
        <p:xfrm>
          <a:off x="0" y="762120"/>
          <a:ext cx="9144000" cy="6126120"/>
        </p:xfrm>
        <a:graphic>
          <a:graphicData uri="http://schemas.openxmlformats.org/drawingml/2006/table">
            <a:tbl>
              <a:tblPr/>
              <a:tblGrid>
                <a:gridCol w="2057400"/>
                <a:gridCol w="708660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iratory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u,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les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colds, mumps, whooping cough, scarlet fever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stinal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hoid fever, paratyphoid A, B, bac. dysentery, vir. hepatitis A, polio, cholera, food poisoning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ctor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ria, spotted typhus, relapsing typhus, 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ow</a:t>
                      </a: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ever, dengue, papatachi fever, leishmaniasis, trypanosomiasi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n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runculosis, carbunculosis, phlegmon, impetigo, actinomycosis, trichophytia, favus, erysipela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und infection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tanus, gas gangrene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homa, blenorrhea, conjunctivitis of various etiology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ereal diseas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norrhea, syphilis, HIV infection, viral hepatitis B and C, genital herpes</a:t>
                      </a:r>
                      <a:r>
                        <a:rPr b="0" lang="sr-Latn-C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DISPOSI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Definition: the tendency of the host to get sick from certain disease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ries under the influence of various factors, the so-called DISPOSITION FAC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eparate from factors that increase exposure to the ag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seases are the result of the action of both, so we call them together conditioning factor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DISPOSITION FACTOR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EN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R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ETHNIC AND RELIGIOUS AFFIL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CCUP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OCIO-ECONOMIC CONDI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OTHER DIS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I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ge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affects both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disposition and expo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HILDREN have a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low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disposition towards the causative agents of poliomyelitis and viral hepatitis A, and a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greater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tendency towards coliform bacteria and staphylococci; due to undeveloped hygiene habits, they are more exposed to intestinal infectious dis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DULTS are more exposed to sexually transmitted diseas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reater sensitivity and more frequent illness of women from some infectious diseases is a consequence of certain physiological conditions 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nstruation (+ tuberculin test, can become -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pregnancy (infections of the renal pelvis with conditionally pathogenic agents are more common; the clinical picture of viral hepatitis A is more seve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ifferences in the frequency of certain diseases in men and women are not only a consequence of biological differences, but also differences in lifestyle, that is, exposure to the age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PHYSICAL AG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*) Traffic trauma has a significant place in the structure of mortality in developed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hysical agents lead to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ndividual illn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ass health disorders (nuclear accidents - Chernobyl)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Racial affilia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ore often they suffer from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uberculosis, syphilis, pertussis – bl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oliomyelitis - whi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FFERENCES as a result of the influence of other factors (habits, customs, socio-economic conditions), and not biological peculiarities of rac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Ethnicity and relig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uslims are less likely to suffer from trichino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onsequence of lifestyle, habits and custom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Occupa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impact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occupation on disposition is difficult to asses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attle breeders and veterinarians are more likely to suffer from some anthropozoonoses, and foresters from tick-borne meningoencephalit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higher frequency of certain infectious diseases among members of certain professions is mainly a consequence of greater exposure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Socio-economic situation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affects the way of life, living conditions and hygiene habi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By improving the economic and hygienic level, the frequency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testinal infectious diseases is reduced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Urbanization with accompanying overcrowding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facilitates the spread of respiratory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fection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Diet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adequat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take of proteins and some vitamins (A, S)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ncreases susceptibility to infectious disease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Starvatio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reduces the ability to create antibodies as well as the phagocytic ability of leukocytes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Other disease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any infectious and non-infectious diseases increase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tendency to other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dis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patients with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chronic non-infectious disease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- bacterial pneumon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diabetic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- infections caused by pyogenic bacte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Measles and pertussis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increase susceptibility to bacterial lung infections and activate tuberculosis foc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Fatigue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It reduces resistance to infe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 number of changes occur in the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Epidemics of meningiti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in soldiers after a strenuous march, or more frequent occurrence of clinically manifest forms of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poliomyelitis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after exhausting play of children infected with the causative agent of this disease, have been recor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Stress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ccording to Selye, various stress factors, including fear, strong emotions, trauma, intense exposure to cold or heat,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can affect the reduction of resistance to infection through the pituitary adrenocortica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COLLECTIVE IMMUNITY</a:t>
            </a:r>
            <a:r>
              <a:rPr b="0" lang="sr-Latn-C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Definition: the resistance of a population to certain dise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ndividual immunity reduces the likelihood that an individual will contract a particular disease when exposed to an ag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Collective immunity reduces the probability of an epidemic after the introduction of an agent into a population or collective, regardless of the fact that some people in that population are still susceptible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EGREE OF COLLECTIVE IMMUNITY</a:t>
            </a:r>
            <a:r>
              <a:rPr b="0" lang="sr-Latn-C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is measured by 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proportion of immun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people in a popul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has significance for the epidemic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t makes it possible to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predict the course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of the epidemi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high % of immune individuals in the population reduces the possibility of contact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between the infected and the suscepti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r-Latn-RS" sz="2800" spc="-1" strike="noStrike" u="sng">
                <a:solidFill>
                  <a:srgbClr val="000000"/>
                </a:solidFill>
                <a:uFillTx/>
                <a:latin typeface="Arial"/>
              </a:rPr>
              <a:t>immune population represents a barrier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to the spread of the agent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GI</dc:creator>
  <dc:description/>
  <dc:language>en-US</dc:language>
  <cp:lastModifiedBy>OGI</cp:lastModifiedBy>
  <dcterms:modified xsi:type="dcterms:W3CDTF">2023-09-26T10:20:31Z</dcterms:modified>
  <cp:revision>10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